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E4E-732D-4220-8B82-738532B1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934-97E0-4A9E-8748-13C11CDB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875-87E1-486B-87FE-0F489A14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495-06CE-44C8-A777-10448CB2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A45-14CF-471F-9546-EF13FDD1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871-2F50-4CF1-9D5A-4015506E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779-B640-4393-B583-4672CA2C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988-0B47-49D3-B054-B0BB4260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C25-CFAF-4241-9EE0-A05CC883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6BF-DCA8-43CA-B417-83637486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722-F1BA-4531-9ADA-8DB8CD71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432-5CEA-440E-98A9-157C8397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FDA7-93C3-4FDF-B097-7CA85C1D8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riginalslinky.com/Where-to-Buy-a-Slinky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1143000"/>
            <a:ext cx="46479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Slink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4876920"/>
            <a:ext cx="24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yssa Dang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15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mputer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linky" descr="Original Slinky"/>
          <p:cNvPicPr/>
          <p:nvPr/>
        </p:nvPicPr>
        <p:blipFill>
          <a:blip r:embed="rId1"/>
          <a:stretch/>
        </p:blipFill>
        <p:spPr>
          <a:xfrm>
            <a:off x="2590920" y="4038480"/>
            <a:ext cx="262260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019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ere to Buy the Original Slinky, Original Slink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ptember20,2011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riginalslinky.com/Where-to-Buy-a-Slink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31240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by : Richard J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5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 :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e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9/23/11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33920" y="3581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Slinky"/>
          <p:cNvPicPr/>
          <p:nvPr/>
        </p:nvPicPr>
        <p:blipFill>
          <a:blip r:embed="rId1"/>
          <a:stretch/>
        </p:blipFill>
        <p:spPr>
          <a:xfrm>
            <a:off x="457200" y="1295280"/>
            <a:ext cx="7238880" cy="327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5029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linky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mptember19,2011, http://web.mit.edu/invent/iow/slinky.htm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9144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0400" y="754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85800"/>
            <a:ext cx="670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inky was invented by Richard J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The Sli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linky was invented in the 19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ore that the slinky was in was a department store in Philadelph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old over 400 slinky in 90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chine was invented that could coil 80 feet of steal wire into a slinky in about 10 sec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time of the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niversary came around the company uses the machines sold over a quarter billion slinky around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linky was used for a lot of things like for school, they used to demonstrate the properties of wa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1940s,the navy never took interested in the springs but after that their success in the slinky they began to find particular 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0, from playground to classroom and climbing down stairways the slinky has educate and has entertain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ichard J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3 engineer Richard James of greater Philadelphia was working on a set of springs for instruments don’t get ruined when they are on board of the 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knocked down the springs accidentally he saw that the springs were flopping in a heap on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3:56:41Z</dcterms:created>
  <dc:creator>install</dc:creator>
  <dc:description/>
  <dc:language>en-US</dc:language>
  <cp:lastModifiedBy>install</cp:lastModifiedBy>
  <dcterms:modified xsi:type="dcterms:W3CDTF">2011-09-26T13:56:42Z</dcterms:modified>
  <cp:revision>11</cp:revision>
  <dc:subject/>
  <dc:title>Slide 1</dc:title>
</cp:coreProperties>
</file>